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AC7-F1C0-420B-98CE-3860B06B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7819-D1CE-4839-9457-34E5BAF67B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83EC-D049-4077-8BCF-21C93D695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6653-1DE8-404A-999F-1F6EFCF584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8FFC-A57A-4191-823B-8862501203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6F4B-95EA-485F-B984-6BA11E5A7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A2B-7BCE-4F81-9E16-90F30500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42B-2E43-4436-986D-CD30B251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4FB-F26C-4FC3-81AB-85EFF9D5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1AF-FB17-4F30-8EA9-9705AB49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EB74-20C5-46F4-8E6F-B513B5E5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C55D-40D2-433B-BA14-805E1AE3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9445-D7CB-41B7-A80C-E0E267D1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463A-8707-4149-97D7-ACCD6CBF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F4F7-B115-4E30-87EB-B6C481E6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ECFD-69C8-4833-B3FB-28581027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4F62-6FE2-46E3-9A99-EBAD857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428-4A58-46B2-9C36-FABB95A9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D23F-4B23-4A46-BDD9-53729DA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4125-2E86-49E4-AA7B-100EE2C5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CD91-EB29-43EE-A382-C5980F76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8271-D763-4359-B3D7-FC17E3EA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EA9-9B0B-4D0C-BF78-682E1DA8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2C2-5239-4BFA-9F07-4026E881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910-FD98-4B71-88B0-0827EF3E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884-4508-417D-B0B6-F9F8806C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068-B2D6-40C9-82CF-0033584F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0C5-0E8B-49C3-A024-B66AB496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8A5-7FDD-4D5C-BB95-7F84089E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33B-FDCA-41FC-8D76-5D1D833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EA43-FEB6-470B-B06D-33501CE77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602-54BA-45BA-91B2-9CE38172BE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AVING MONE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When you save money, is the interest usually LOW or HIG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8120" y="3208320"/>
            <a:ext cx="2971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77840"/>
            <a:ext cx="9144000" cy="39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What is arguably the most important financial rule that we will talk about in personal finance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45124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60" y="7617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Name one Savings Instrum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9132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80" y="22824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How much money in Savings Accounts is guaranteed by the US Govern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495144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4711680" y="404964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hhhhh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711680" y="3817800"/>
            <a:ext cx="1663560" cy="4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ll in the Blank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In a CD, the longer the ________, the higher the ______rate that is paid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449880" cy="334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22T15:05:14Z</dcterms:modified>
  <cp:revision>145</cp:revision>
  <dc:subject/>
  <dc:title>D/O: TO EXPLAIN AND IDENTIFY PROBLEMS OF ECONOMICS</dc:title>
</cp:coreProperties>
</file>